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6E0-E0A3-4220-8ECE-C33FBA43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3DB-DE1F-4DDF-9570-A75DEE617EE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8C5-7822-477C-B8B0-5D5401E4571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136-1DF4-4D79-A5CC-B8B97F8104F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9DF4-DEE9-49FC-B641-A5B33084488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2D1-CC10-413A-A623-73A30272FC7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6F2D-AD86-4BFF-A716-E9CA428CD99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C73-8A3A-49E0-BC3D-1DBD6E13A0A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CA36-269D-47C4-9104-AED9B0CDE84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6DB-DB2F-49B2-ABB0-B33C923DD19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EB1-6F43-4464-A6B5-924F0DFA3C2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737-5CAD-4271-BCE0-847A37EF773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0A7-6819-4444-AC9B-9B6B212887C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C4C-CD1C-4281-B8E0-18168815756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0FF6-1228-46B8-8C20-0E1BB38A665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F6B5-90F8-471A-A6DB-D82E8548597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1BA-6A6A-47D4-AAB9-6FCF389A453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E3CE-9F50-4F97-9C8F-B15C04397AE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31F-59B8-4281-8949-AFB3899D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01C-E621-473B-915D-C164DA0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333-7BA1-431E-AC4A-E38C3A8E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BC8-CA07-4A06-86AA-8E0A8648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E9D6-A027-417F-AA96-5D577826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9E4-7343-45B9-897D-C93023A2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E80-6B8F-4430-81EF-51EDDB4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826B-D2E0-4BEB-A89E-ECF9713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971-60AE-4B7E-A810-DD1DB67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F79-B076-4580-919A-2BB6494B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DB5-55DB-4C44-8BF3-47AADC8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B9A-C220-45CD-8160-9909AA07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E46-314F-4F8A-82A8-2FDBE3C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809F-BF2F-4798-B44B-B8D99E8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6CC-9FF3-4E7B-B98E-A3364A7E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2CFC-1E37-4E5B-B38A-78ABACC0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A6C2-D11F-492B-82E7-9E6A990A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AEA-415A-432D-9482-D74F45B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F64-536C-4593-B8D0-D39D29CC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F77-124A-453A-8877-E7424BB2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678-7F82-4762-ADC7-57F6799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9B8-A9C9-4345-AC6F-08C6F33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2CE-0EAC-41B7-A477-F68C667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CA2-D113-4B54-85B7-FE8452B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72F-727E-4A4B-B4FF-21603A617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8B0E-60EA-42DF-A0B8-C01F6C63177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southernct.edu/~brownm/300genre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Genre: Teaching Elements of Fantasy and Non-Fiction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: Asking Questions &amp; Visualiz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376360" y="2590920"/>
            <a:ext cx="173664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648320" y="2971800"/>
            <a:ext cx="167616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6629400" y="4724280"/>
            <a:ext cx="16765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8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46480" y="1455840"/>
            <a:ext cx="2294640" cy="7030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WATCH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685520" y="2590920"/>
            <a:ext cx="2061360" cy="13129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HELP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FIN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mall group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uided practic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886200" y="3432240"/>
            <a:ext cx="3809880" cy="128304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 HELP - YOU D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Apply with peer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(lit circles, center activiti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105520" y="4876920"/>
            <a:ext cx="3962160" cy="70380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 WATCH - 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ELF-ASSESS &amp; SET GOAL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: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nowing Fact, Fiction,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d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’s the differenc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 volcano erupts, hot melted rock called magma is pushed to the surface of the earth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iant cracks split the stone floor as Jack and Annie ran to a window and looked out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a great flash of fire, a strong man that looked like a gladiator picked them up and placed them both on the other bank of the stream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280320" y="1219320"/>
            <a:ext cx="27198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CT (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95280" y="1219320"/>
            <a:ext cx="23112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546960" y="1219320"/>
            <a:ext cx="15829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406920" y="24382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6406920" y="38098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406920" y="51814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’s the differenc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tory about something that is untrue, but it could actually happen (it’s realistic) – some events, people, and places may even be real (adventure stories, family stories, societal or psychological problem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tory of the impossible – it contains some form of magic and/or enchant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Non-Fict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or factual material presented to instruct the reader (science, art, human development, lands, and peopl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Can you locate examples of each in your Magic Treehouse book?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280320" y="1219320"/>
            <a:ext cx="27198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CT (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700200" y="1219320"/>
            <a:ext cx="23112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6546960" y="1219320"/>
            <a:ext cx="15829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5-Point Star 9">
            <a:hlinkClick r:id="rId5"/>
          </p:cNvPr>
          <p:cNvSpPr/>
          <p:nvPr/>
        </p:nvSpPr>
        <p:spPr>
          <a:xfrm>
            <a:off x="8001000" y="6019920"/>
            <a:ext cx="685800" cy="609480"/>
          </a:xfrm>
          <a:prstGeom prst="pie">
            <a:avLst/>
          </a:prstGeom>
          <a:solidFill>
            <a:srgbClr val="3300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lanning the Activity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A.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nowing Fact, Realistic Fiction, &amp; Fantasy: Locate examples of each and sort statements into three list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B.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riefly describe an activity that requires students to separate fact from fiction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C. Planning Your Teach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rite a short think-aloud to help students understand the difference between a story event that is fictional and fantastic (using particular examples from your text to illustrate the differenc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5: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rategy Instruction for Visualizing (Ch. 6) and Asking Questions (Ch. 7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Book Activity 5: Applying Reading Strategies in Vacation Under the Volcano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wo short script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e for Visualiz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Explain, Define, Two Models &amp; Student response, Clarif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e for Asking Ques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Explain, Define, Two Models &amp; Student response, Clarif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, what does your book teach you about: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Visualiz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Ch. 8) and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sking Question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Ch. 7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Visualizing (Ch. 8)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e means to draw, diagram, imagine, make a picture in your h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e “personal inferences/connections” (text clues + background) but in picture fo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se your senses, emotional reaction, or text features to create a picture/feeling/moo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helps relate to characters, better understand the setting; connect new to old without wor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’s hard for some students: Start simp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agine a huge plate of your favorite food.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e had the BEST day today! Picture in your mind what you did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ew activities and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es to share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download slides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notes on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quality fantasy and informational texts &amp; benefits of reading (Hancock, Ch. 4 &amp; 7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notes on thre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structional model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rom your text that integrate multiple genres and text formats for unit study and response (Hancock, Ch. 1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minder: We will go to the library on Thursday to explore basal reading series.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Visualizing (Ch. 8)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&amp; appl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the text you are reading (and ask students to notice how you visualized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inning treehous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lively city streets of Pompeii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oothsay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volcano erup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&amp; Extend with practice activities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imelines, diagrams, setting quilt, draw to remember, sketch to stretch (see p.  138-151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king Questions (Ch. 7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Question answer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versus </a:t>
            </a: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question generat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: both solid strategies for supporting higher-level comprehension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Problem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: Questions not always relevant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Set a purpose at three key points: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Before reading…during reading…after reading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Why/How ask questions?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 To clarify meaning; understand vocabulary; locate specific info; connect; see/feel like…; summarize; extend learning; predict [Skim Ch.7 p. 123-129 for ideas] 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’t spend all their time looking for answers that are not “right there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’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fer to your handouts for more examp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09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z 1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 3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Clarify the role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 one part of reading comprehension strategy instruction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Clarify differences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ct, fiction, and fantas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ook Activity 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Strategy Instruction for Visualizing &amp; Asking Questions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AR framewor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. Provide feedback for Quiz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mework and Next Wee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hursday, Oct. 21 Book Activity 4 and 5 (Meet in the library and please be on tim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NGE IN PLANS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uesday, Oct. 26: NO INTERNET WORKSHOP, BA #6, OR DISC MEMO #2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ea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hapter on Guided Reading and Read Lesson Plan Assignment – come with questions about the reading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ring in completed QAR handout too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from class today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hursday, Oct. 29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Hollis Woods – Ch. 1-5 and first part of Summary Notes Sheet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ity 3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Clarify the role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 one part of reading comprehension strategy instruction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Clarify differences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ct, fiction, and fantas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ook Activity 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Strategy Instruction for Visualizing &amp; Asking Questions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AR framewor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. Provide feedback for Quiz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3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Feedback - Book Activity 3: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hink-Aloud Strategy Script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Remember: The think aloud phase is all about the TEACHER DEFINING &amp; MODELING (</a:t>
            </a:r>
            <a:r>
              <a:rPr b="0" i="1" lang="en-US" sz="2500" spc="-1" strike="noStrike">
                <a:solidFill>
                  <a:srgbClr val="330000"/>
                </a:solidFill>
                <a:latin typeface="Arial"/>
              </a:rPr>
              <a:t>teach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) the strategy and how and when to use it during real reading [Introduce, define, and explain]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We ask students to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how we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applied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the strategy and then we clarify the key points before guided practice [Notice and Apply; Clarify]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Then we give students LOTS of time to PRACTICE and LET IT GEL [next phases…]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nect Two &amp; 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513600" y="3276720"/>
            <a:ext cx="134820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285720" y="2362320"/>
            <a:ext cx="175644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ACH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647520" y="4114800"/>
            <a:ext cx="114696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282480" y="5029200"/>
            <a:ext cx="183132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MODEL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nect Two &amp; 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4961520" y="4114800"/>
            <a:ext cx="134820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885920" y="2819520"/>
            <a:ext cx="175644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ACH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20360" y="4114800"/>
            <a:ext cx="114696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139480" y="2819520"/>
            <a:ext cx="183132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MODEL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0"/>
          <p:cNvCxnSpPr>
            <a:stCxn id="108" idx="3"/>
            <a:endCxn id="106" idx="1"/>
          </p:cNvCxnSpPr>
          <p:nvPr/>
        </p:nvCxnSpPr>
        <p:spPr>
          <a:xfrm>
            <a:off x="3673440" y="4438800"/>
            <a:ext cx="128016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stCxn id="106" idx="1"/>
            <a:endCxn id="108" idx="3"/>
          </p:cNvCxnSpPr>
          <p:nvPr/>
        </p:nvCxnSpPr>
        <p:spPr>
          <a:xfrm flipH="1" flipV="1">
            <a:off x="3673080" y="4438440"/>
            <a:ext cx="1280160" cy="2160"/>
          </a:xfrm>
          <a:prstGeom prst="straightConnector1">
            <a:avLst/>
          </a:prstGeom>
          <a:ln w="9360">
            <a:solidFill>
              <a:srgbClr val="33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Straight Arrow Connector 14"/>
          <p:cNvCxnSpPr>
            <a:stCxn id="109" idx="3"/>
            <a:endCxn id="107" idx="1"/>
          </p:cNvCxnSpPr>
          <p:nvPr/>
        </p:nvCxnSpPr>
        <p:spPr>
          <a:xfrm>
            <a:off x="3976200" y="3142800"/>
            <a:ext cx="90108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3" name="TextBox 15"/>
          <p:cNvSpPr/>
          <p:nvPr/>
        </p:nvSpPr>
        <p:spPr>
          <a:xfrm>
            <a:off x="1775520" y="518148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00"/>
                </a:solidFill>
                <a:latin typeface="Arial"/>
              </a:rPr>
              <a:t>Don’t forget to teach first!! 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etacognitive Teaching Framework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685800" y="1981080"/>
            <a:ext cx="8538120" cy="2057400"/>
            <a:chOff x="685800" y="1981080"/>
            <a:chExt cx="8538120" cy="2057400"/>
          </a:xfrm>
        </p:grpSpPr>
        <p:sp>
          <p:nvSpPr>
            <p:cNvPr id="117" name="Rectangle 4"/>
            <p:cNvSpPr/>
            <p:nvPr/>
          </p:nvSpPr>
          <p:spPr>
            <a:xfrm>
              <a:off x="685800" y="1981080"/>
              <a:ext cx="6400800" cy="20574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6843960" y="2514240"/>
              <a:ext cx="237996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43800" y="5029200"/>
            <a:ext cx="23446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ESSON PLA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21" name="Straight Arrow Connector 9"/>
          <p:cNvCxnSpPr/>
          <p:nvPr/>
        </p:nvCxnSpPr>
        <p:spPr>
          <a:xfrm flipH="1">
            <a:off x="8074800" y="3582720"/>
            <a:ext cx="3960" cy="14482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his framework is designed to support readers each step toward indep. reading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812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explicitly model what, how, and when a strategy i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 discussions and peer interactions (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s key!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grate into practice activit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help transfer new learning to other sett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al: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lf-regulation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udents monitor and fix-up themselves)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depende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2133720"/>
          <a:ext cx="2971800" cy="373356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he Teacher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he Students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watch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help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help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watch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8:58Z</dcterms:created>
  <dc:creator>Julie Coiro</dc:creator>
  <dc:description/>
  <dc:language>en-US</dc:language>
  <cp:lastModifiedBy>Julie Coiro</cp:lastModifiedBy>
  <cp:lastPrinted>2009-10-19T14:47:12Z</cp:lastPrinted>
  <dcterms:modified xsi:type="dcterms:W3CDTF">2010-10-18T16:45:54Z</dcterms:modified>
  <cp:revision>295</cp:revision>
  <dc:subject/>
  <dc:title>Metacognitive Strategy Instruction to Enhance Reading Comprehension</dc:title>
</cp:coreProperties>
</file>